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1.png" ContentType="image/png"/>
  <Override PartName="/ppt/media/image24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2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5F7-FD6A-467E-9CCD-C1DE5A00153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B17-628F-46BD-BF0F-62DA28D922C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6812-F1E9-413B-BDED-10DFF9B19DA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FC9-D004-4C39-A7E4-8271579F49B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5F7-2696-4DF8-A236-0593B05F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540-FE83-47D9-8A05-280FEB3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041-44E9-4213-B3D6-041BC157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6FB-E1B5-4653-9EB7-EC3B6D8B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62F4-5C61-43EB-82FD-5D5B29B5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13EC-A4D8-40DB-BF77-E9D3933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A9B-A7B7-45E2-AACA-68ABD69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8A23-666C-41EF-A247-6913408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8891-E2EA-4649-8E08-B849A6A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E0EE-69D7-4A98-96DA-ADD59C3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C78E-2F8E-4B1E-8310-D798A97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3C1-C2BA-4CC8-9A42-84D50809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C499-1DE3-4A50-833E-29D8CBB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5AC-5636-46F2-8D8D-2B0810E3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CA9D-5DAA-4C0E-8DAF-7C3F47F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E0BA-DF81-41FE-92BE-45946CA7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7EF-09FC-43B7-BB69-110EE8DF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9081-F3EA-4801-9039-AC5AB59F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09D7-9577-40C6-A8E8-69C0BCC9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A110-D70A-43B2-A3E8-1ECAC19B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B618-6686-4743-A4EF-5C8D38A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A484-7456-4D4B-B235-619BD1B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565-935B-4FD5-A42B-7CEB65E6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BA11-D71C-4643-8BF0-BA58AAA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AAB2-BF87-4674-873C-7E460CD2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4B4E-1CF3-4927-AFA3-142E8025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9273-2F4A-442D-9A6E-DDAC8D91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5643-7718-454A-A5D8-5AA4106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D227-CEF5-4828-ABE6-B87AAE80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AC6A-765B-476E-9CEB-908D08DE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B77-8574-4393-B24D-D3745855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963-B7CA-495D-A8AB-28FFAC10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319-00E6-42B2-8E0B-24A7167F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776-F6CF-407E-8767-4A9CA248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64D-5404-4ED8-9C60-4132A49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475-00C6-4BC9-9E6A-C88B423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E44-4C89-4C3C-8531-6A5C54C2C51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42E0-5D72-4CDA-AE04-82F3B0D7FBD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AA4C-404F-4810-B98A-AE50371C7DD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18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diabetesbienestarysalud.com/wp-content/uploads/2011/03/alimentos-proteinas-diabetes-585x300.jpg"/>
          <p:cNvPicPr/>
          <p:nvPr/>
        </p:nvPicPr>
        <p:blipFill>
          <a:blip r:embed="rId1"/>
          <a:stretch/>
        </p:blipFill>
        <p:spPr>
          <a:xfrm>
            <a:off x="0" y="357120"/>
            <a:ext cx="9036000" cy="535788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2920" y="506520"/>
            <a:ext cx="882000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8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PROTEÍNAS Y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Digestión de proteínas y Absorción de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etabolismo de aminoácidos- Degradación y eliminación de Nitrógeno: Reacciones de  Transaminación, Desaminación oxidativa del Glutamat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saminación No oxid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iclo de la U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atabolismo del esqueleto carbonado: Aminoácidos      Glucogénicos y Cetogé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Funciones precursoras de los Aminoácido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73160" y="409680"/>
            <a:ext cx="689904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260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5643720" y="3357720"/>
            <a:ext cx="100008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3 Rectángulo"/>
          <p:cNvSpPr/>
          <p:nvPr/>
        </p:nvSpPr>
        <p:spPr>
          <a:xfrm>
            <a:off x="300024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5 Rectángulo"/>
          <p:cNvSpPr/>
          <p:nvPr/>
        </p:nvSpPr>
        <p:spPr>
          <a:xfrm>
            <a:off x="550080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8 CuadroTexto"/>
          <p:cNvSpPr/>
          <p:nvPr/>
        </p:nvSpPr>
        <p:spPr>
          <a:xfrm>
            <a:off x="2428920" y="342900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24 CuadroTexto"/>
          <p:cNvGrpSpPr/>
          <p:nvPr/>
        </p:nvGrpSpPr>
        <p:grpSpPr>
          <a:xfrm>
            <a:off x="2840040" y="5456160"/>
            <a:ext cx="1317600" cy="1103400"/>
            <a:chOff x="2840040" y="5456160"/>
            <a:chExt cx="1317600" cy="1103400"/>
          </a:xfrm>
        </p:grpSpPr>
        <p:pic>
          <p:nvPicPr>
            <p:cNvPr id="273" name="24 CuadroTexto" descr=""/>
            <p:cNvPicPr/>
            <p:nvPr/>
          </p:nvPicPr>
          <p:blipFill>
            <a:blip r:embed="rId2"/>
            <a:stretch/>
          </p:blipFill>
          <p:spPr>
            <a:xfrm>
              <a:off x="2840040" y="545616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022920" y="5500800"/>
              <a:ext cx="9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25 CuadroTexto"/>
          <p:cNvSpPr/>
          <p:nvPr/>
        </p:nvSpPr>
        <p:spPr>
          <a:xfrm>
            <a:off x="2428920" y="3416400"/>
            <a:ext cx="1285920" cy="36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8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000" y="333000"/>
            <a:ext cx="882036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RINDEN OXAL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922320" y="4149720"/>
            <a:ext cx="2282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84360" y="2205000"/>
            <a:ext cx="280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508720" y="4221000"/>
            <a:ext cx="2631960" cy="459720"/>
          </a:xfrm>
          <a:prstGeom prst="rect">
            <a:avLst/>
          </a:prstGeom>
          <a:solidFill>
            <a:srgbClr val="ef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2050920" y="28526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 rot="16200000">
            <a:off x="4356000" y="3573000"/>
            <a:ext cx="215640" cy="1800000"/>
          </a:xfrm>
          <a:prstGeom prst="downArrow">
            <a:avLst>
              <a:gd name="adj1" fmla="val 50000"/>
              <a:gd name="adj2" fmla="val 20868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411280" y="3068640"/>
            <a:ext cx="23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sparrag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708360" y="4005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1116000" y="3500280"/>
            <a:ext cx="792000" cy="4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1187280" y="2781360"/>
            <a:ext cx="648000" cy="40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3"/>
          <p:cNvSpPr/>
          <p:nvPr/>
        </p:nvSpPr>
        <p:spPr>
          <a:xfrm>
            <a:off x="1835280" y="306864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457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1835280" y="4869000"/>
            <a:ext cx="24476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4449600" y="4906800"/>
            <a:ext cx="17780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3924360" y="465300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293" name="Picture 2" descr=""/>
            <p:cNvPicPr/>
            <p:nvPr/>
          </p:nvPicPr>
          <p:blipFill>
            <a:blip r:embed="rId1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Calibri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Calibri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Calibri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5 CuadroTexto"/>
          <p:cNvSpPr/>
          <p:nvPr/>
        </p:nvSpPr>
        <p:spPr>
          <a:xfrm>
            <a:off x="3796560" y="5715000"/>
            <a:ext cx="13284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5075280" y="1500120"/>
            <a:ext cx="100980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spar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7 CuadroTexto"/>
          <p:cNvSpPr/>
          <p:nvPr/>
        </p:nvSpPr>
        <p:spPr>
          <a:xfrm>
            <a:off x="5103360" y="3478320"/>
            <a:ext cx="91836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spar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8 CuadroTexto"/>
          <p:cNvSpPr/>
          <p:nvPr/>
        </p:nvSpPr>
        <p:spPr>
          <a:xfrm>
            <a:off x="4837680" y="3857760"/>
            <a:ext cx="15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fa-Cetogluta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9 CuadroTexto"/>
          <p:cNvSpPr/>
          <p:nvPr/>
        </p:nvSpPr>
        <p:spPr>
          <a:xfrm>
            <a:off x="4814280" y="4429080"/>
            <a:ext cx="95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214200" y="409680"/>
            <a:ext cx="689940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303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2 Rectángulo"/>
          <p:cNvSpPr/>
          <p:nvPr/>
        </p:nvSpPr>
        <p:spPr>
          <a:xfrm>
            <a:off x="5786280" y="3357720"/>
            <a:ext cx="100044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3 Rectángulo"/>
          <p:cNvSpPr/>
          <p:nvPr/>
        </p:nvSpPr>
        <p:spPr>
          <a:xfrm>
            <a:off x="307188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5 Rectángulo"/>
          <p:cNvSpPr/>
          <p:nvPr/>
        </p:nvSpPr>
        <p:spPr>
          <a:xfrm>
            <a:off x="557208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 flipV="1">
            <a:off x="214200" y="1454040"/>
            <a:ext cx="42876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214200" y="1071360"/>
            <a:ext cx="428760" cy="96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6500880" y="3786120"/>
            <a:ext cx="785880" cy="7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0"/>
          <p:cNvSpPr/>
          <p:nvPr/>
        </p:nvSpPr>
        <p:spPr>
          <a:xfrm>
            <a:off x="6686640" y="3571920"/>
            <a:ext cx="60012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6 Rectángulo"/>
          <p:cNvSpPr/>
          <p:nvPr/>
        </p:nvSpPr>
        <p:spPr>
          <a:xfrm>
            <a:off x="500040" y="2928960"/>
            <a:ext cx="1214640" cy="4287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7 Rectángulo"/>
          <p:cNvSpPr/>
          <p:nvPr/>
        </p:nvSpPr>
        <p:spPr>
          <a:xfrm>
            <a:off x="3929040" y="3429000"/>
            <a:ext cx="10717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21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2" dur="2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a Fenilalanina y 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os dos aminoácidos se degradan por la misma vía y dan lugar a fumarato y aceto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 partir de Fenilalanina se forma tirosina por ello se la considera aminoácido es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enilalanina también puede transaminar para dar los cetoácidos fenilpirúvico y fenilláctico (vía poco ac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30"/>
          <p:cNvGrpSpPr/>
          <p:nvPr/>
        </p:nvGrpSpPr>
        <p:grpSpPr>
          <a:xfrm>
            <a:off x="1214280" y="714240"/>
            <a:ext cx="6552720" cy="5760720"/>
            <a:chOff x="1214280" y="714240"/>
            <a:chExt cx="6552720" cy="5760720"/>
          </a:xfrm>
        </p:grpSpPr>
        <p:grpSp>
          <p:nvGrpSpPr>
            <p:cNvPr id="324" name="Group 22"/>
            <p:cNvGrpSpPr/>
            <p:nvPr/>
          </p:nvGrpSpPr>
          <p:grpSpPr>
            <a:xfrm>
              <a:off x="1214280" y="714240"/>
              <a:ext cx="6552720" cy="5760720"/>
              <a:chOff x="1214280" y="714240"/>
              <a:chExt cx="6552720" cy="5760720"/>
            </a:xfrm>
          </p:grpSpPr>
          <p:grpSp>
            <p:nvGrpSpPr>
              <p:cNvPr id="325" name="Group 20"/>
              <p:cNvGrpSpPr/>
              <p:nvPr/>
            </p:nvGrpSpPr>
            <p:grpSpPr>
              <a:xfrm>
                <a:off x="1214280" y="714240"/>
                <a:ext cx="6552720" cy="5760360"/>
                <a:chOff x="1214280" y="714240"/>
                <a:chExt cx="6552720" cy="5760360"/>
              </a:xfrm>
            </p:grpSpPr>
            <p:pic>
              <p:nvPicPr>
                <p:cNvPr id="326" name="Picture 2" descr=""/>
                <p:cNvPicPr/>
                <p:nvPr/>
              </p:nvPicPr>
              <p:blipFill>
                <a:blip r:embed="rId1"/>
                <a:srcRect l="35746" t="4789" r="0" b="12549"/>
                <a:stretch/>
              </p:blipFill>
              <p:spPr>
                <a:xfrm>
                  <a:off x="1297080" y="7948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Rectangle 11"/>
                <p:cNvSpPr/>
                <p:nvPr/>
              </p:nvSpPr>
              <p:spPr>
                <a:xfrm>
                  <a:off x="1214280" y="7142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Rectangle 13"/>
              <p:cNvSpPr/>
              <p:nvPr/>
            </p:nvSpPr>
            <p:spPr>
              <a:xfrm>
                <a:off x="1297440" y="59882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4"/>
              <p:cNvSpPr/>
              <p:nvPr/>
            </p:nvSpPr>
            <p:spPr>
              <a:xfrm>
                <a:off x="4824720" y="29538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4896720" y="26607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8"/>
              <p:cNvSpPr/>
              <p:nvPr/>
            </p:nvSpPr>
            <p:spPr>
              <a:xfrm>
                <a:off x="4640040" y="54676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2"/>
              <p:cNvSpPr/>
              <p:nvPr/>
            </p:nvSpPr>
            <p:spPr>
              <a:xfrm>
                <a:off x="1297440" y="29041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1297440" y="40399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8"/>
            <p:cNvSpPr/>
            <p:nvPr/>
          </p:nvSpPr>
          <p:spPr>
            <a:xfrm>
              <a:off x="6079320" y="3238560"/>
              <a:ext cx="627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24"/>
          <p:cNvSpPr/>
          <p:nvPr/>
        </p:nvSpPr>
        <p:spPr>
          <a:xfrm>
            <a:off x="5453640" y="1720800"/>
            <a:ext cx="7704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Calibri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Calibri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6504840" y="1795320"/>
            <a:ext cx="22644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4248360" y="2779560"/>
            <a:ext cx="144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Transaminaci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Descarboxilaci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Oxidaci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Hidr</a:t>
            </a: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Calibri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3089160" y="4398840"/>
            <a:ext cx="6926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7 CuadroTexto"/>
          <p:cNvSpPr/>
          <p:nvPr/>
        </p:nvSpPr>
        <p:spPr>
          <a:xfrm>
            <a:off x="6568200" y="1500120"/>
            <a:ext cx="10828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8 CuadroTexto"/>
          <p:cNvSpPr/>
          <p:nvPr/>
        </p:nvSpPr>
        <p:spPr>
          <a:xfrm>
            <a:off x="6838560" y="2714760"/>
            <a:ext cx="77364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19 CuadroTexto"/>
          <p:cNvSpPr/>
          <p:nvPr/>
        </p:nvSpPr>
        <p:spPr>
          <a:xfrm>
            <a:off x="6477840" y="4000680"/>
            <a:ext cx="90324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0 CuadroTexto"/>
          <p:cNvSpPr/>
          <p:nvPr/>
        </p:nvSpPr>
        <p:spPr>
          <a:xfrm>
            <a:off x="2600280" y="5264280"/>
            <a:ext cx="136656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ceto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21 CuadroTexto"/>
          <p:cNvSpPr/>
          <p:nvPr/>
        </p:nvSpPr>
        <p:spPr>
          <a:xfrm>
            <a:off x="2577600" y="6215040"/>
            <a:ext cx="95508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3 CuadroTexto"/>
          <p:cNvSpPr/>
          <p:nvPr/>
        </p:nvSpPr>
        <p:spPr>
          <a:xfrm>
            <a:off x="4929120" y="4429080"/>
            <a:ext cx="135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5 Multiplicar"/>
          <p:cNvSpPr/>
          <p:nvPr/>
        </p:nvSpPr>
        <p:spPr>
          <a:xfrm>
            <a:off x="5143680" y="1714680"/>
            <a:ext cx="21420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26 CuadroTexto"/>
          <p:cNvSpPr/>
          <p:nvPr/>
        </p:nvSpPr>
        <p:spPr>
          <a:xfrm>
            <a:off x="8157960" y="1857240"/>
            <a:ext cx="28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45 CuadroTexto"/>
          <p:cNvSpPr/>
          <p:nvPr/>
        </p:nvSpPr>
        <p:spPr>
          <a:xfrm>
            <a:off x="3462840" y="16923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Fenilcetonu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47 Conector recto de flecha"/>
          <p:cNvCxnSpPr/>
          <p:nvPr/>
        </p:nvCxnSpPr>
        <p:spPr>
          <a:xfrm flipH="1" flipV="1">
            <a:off x="4714560" y="1855440"/>
            <a:ext cx="3578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9" name="51 CuadroTexto"/>
          <p:cNvSpPr/>
          <p:nvPr/>
        </p:nvSpPr>
        <p:spPr>
          <a:xfrm>
            <a:off x="3286080" y="1630440"/>
            <a:ext cx="2143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52 CuadroTexto"/>
          <p:cNvSpPr/>
          <p:nvPr/>
        </p:nvSpPr>
        <p:spPr>
          <a:xfrm flipH="1">
            <a:off x="3857040" y="1143000"/>
            <a:ext cx="185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0000"/>
                </a:solidFill>
                <a:latin typeface="Calibri"/>
              </a:rPr>
              <a:t>Aminotransfer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0000"/>
                </a:solidFill>
                <a:latin typeface="Calibri"/>
              </a:rPr>
              <a:t>PL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54 Conector recto de flecha"/>
          <p:cNvCxnSpPr/>
          <p:nvPr/>
        </p:nvCxnSpPr>
        <p:spPr>
          <a:xfrm flipH="1" flipV="1">
            <a:off x="4214160" y="1142640"/>
            <a:ext cx="1251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2" name="56 CuadroTexto"/>
          <p:cNvSpPr/>
          <p:nvPr/>
        </p:nvSpPr>
        <p:spPr>
          <a:xfrm>
            <a:off x="2969640" y="1000080"/>
            <a:ext cx="110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enilpirúv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59 Flecha circular"/>
          <p:cNvSpPr/>
          <p:nvPr/>
        </p:nvSpPr>
        <p:spPr>
          <a:xfrm rot="10800000">
            <a:off x="4500360" y="642600"/>
            <a:ext cx="571320" cy="50004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60 CuadroTexto"/>
          <p:cNvSpPr/>
          <p:nvPr/>
        </p:nvSpPr>
        <p:spPr>
          <a:xfrm>
            <a:off x="3936600" y="357120"/>
            <a:ext cx="15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lanina     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61 CuadroTexto"/>
          <p:cNvSpPr/>
          <p:nvPr/>
        </p:nvSpPr>
        <p:spPr>
          <a:xfrm>
            <a:off x="2857680" y="571680"/>
            <a:ext cx="2643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enilalanina Hidroxil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5" descr="fi21p18"/>
          <p:cNvPicPr/>
          <p:nvPr/>
        </p:nvPicPr>
        <p:blipFill>
          <a:blip r:embed="rId1"/>
          <a:srcRect l="9045" t="0" r="14583" b="36784"/>
          <a:stretch/>
        </p:blipFill>
        <p:spPr>
          <a:xfrm>
            <a:off x="289080" y="1547640"/>
            <a:ext cx="8604000" cy="42577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3635280" y="2565360"/>
            <a:ext cx="18003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Fenilalanina hidr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635280" y="5229360"/>
            <a:ext cx="1944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Dihidropterin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971640" y="6308640"/>
            <a:ext cx="640872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xigenasa de función mixta: -OH y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3"/>
          <p:cNvSpPr/>
          <p:nvPr/>
        </p:nvSpPr>
        <p:spPr>
          <a:xfrm>
            <a:off x="5508720" y="5373720"/>
            <a:ext cx="180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H + 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826920" y="3141720"/>
            <a:ext cx="208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6659640" y="3141720"/>
            <a:ext cx="1439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692360" y="4941720"/>
            <a:ext cx="190800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2700360" y="5373720"/>
            <a:ext cx="93492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5867280" y="4941720"/>
            <a:ext cx="190836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transaminación de Fenilala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68680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a ruta del metabolismo de fenilalanina, muy poco utiliz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55640" y="4141800"/>
            <a:ext cx="2808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3490920" y="4284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572000" y="414180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987640" y="5805360"/>
            <a:ext cx="17287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5508720" y="587700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409720" y="4953960"/>
            <a:ext cx="698040" cy="82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3492360" y="4365720"/>
            <a:ext cx="71928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3059280" y="38606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4"/>
          <p:cNvGrpSpPr/>
          <p:nvPr/>
        </p:nvGrpSpPr>
        <p:grpSpPr>
          <a:xfrm>
            <a:off x="3348000" y="4933800"/>
            <a:ext cx="1655640" cy="648000"/>
            <a:chOff x="3348000" y="4933800"/>
            <a:chExt cx="1655640" cy="648000"/>
          </a:xfrm>
        </p:grpSpPr>
        <p:sp>
          <p:nvSpPr>
            <p:cNvPr id="378" name="Line 10"/>
            <p:cNvSpPr/>
            <p:nvPr/>
          </p:nvSpPr>
          <p:spPr>
            <a:xfrm flipH="1">
              <a:off x="4140360" y="4933800"/>
              <a:ext cx="86328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3348000" y="4941720"/>
              <a:ext cx="865080" cy="405720"/>
            </a:xfrm>
            <a:prstGeom prst="rect">
              <a:avLst/>
            </a:prstGeom>
            <a:solidFill>
              <a:srgbClr val="ebf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C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5"/>
            <p:cNvSpPr/>
            <p:nvPr/>
          </p:nvSpPr>
          <p:spPr>
            <a:xfrm flipH="1" flipV="1">
              <a:off x="4211280" y="5084280"/>
              <a:ext cx="431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19" descr="phe"/>
          <p:cNvPicPr/>
          <p:nvPr/>
        </p:nvPicPr>
        <p:blipFill>
          <a:blip r:embed="rId6"/>
          <a:srcRect l="0" t="0" r="-5192" b="8872"/>
          <a:stretch/>
        </p:blipFill>
        <p:spPr>
          <a:xfrm>
            <a:off x="900000" y="2637000"/>
            <a:ext cx="1095480" cy="13428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3"/>
          <p:cNvGrpSpPr/>
          <p:nvPr/>
        </p:nvGrpSpPr>
        <p:grpSpPr>
          <a:xfrm>
            <a:off x="4932360" y="2637000"/>
            <a:ext cx="1095480" cy="1342800"/>
            <a:chOff x="4932360" y="2637000"/>
            <a:chExt cx="1095480" cy="1342800"/>
          </a:xfrm>
        </p:grpSpPr>
        <p:pic>
          <p:nvPicPr>
            <p:cNvPr id="383" name="Picture 17" descr="phe"/>
            <p:cNvPicPr/>
            <p:nvPr/>
          </p:nvPicPr>
          <p:blipFill>
            <a:blip r:embed="rId7"/>
            <a:srcRect l="0" t="0" r="-5192" b="8872"/>
            <a:stretch/>
          </p:blipFill>
          <p:spPr>
            <a:xfrm>
              <a:off x="4932360" y="2637000"/>
              <a:ext cx="109548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22"/>
            <p:cNvSpPr/>
            <p:nvPr/>
          </p:nvSpPr>
          <p:spPr>
            <a:xfrm>
              <a:off x="4932360" y="3500280"/>
              <a:ext cx="431640" cy="2764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1 Rectángulo"/>
          <p:cNvSpPr/>
          <p:nvPr/>
        </p:nvSpPr>
        <p:spPr>
          <a:xfrm>
            <a:off x="539640" y="620640"/>
            <a:ext cx="8280360" cy="5761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Fenilcetonu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 el trastorno se detecta a tiempo puede evitarse el daño cerebral administrando una dieta con bajo contenido de fenilalanina y abundante contenido en tiros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 común encontrar alimentos que alertan sobre el no consumo para fenilcetonúricos, por ejemplo, los que contienen como edulcorante el ASPARTAMO, un dipéptido de fenilalanina y aspartato que cuando se hidroliza en el tracto digestivo  libera  fenilalan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Group 11" descr=""/>
          <p:cNvPicPr/>
          <p:nvPr/>
        </p:nvPicPr>
        <p:blipFill>
          <a:blip r:embed="rId1"/>
          <a:stretch/>
        </p:blipFill>
        <p:spPr>
          <a:xfrm>
            <a:off x="1895400" y="2341440"/>
            <a:ext cx="37069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2"/>
          <p:cNvGrpSpPr/>
          <p:nvPr/>
        </p:nvGrpSpPr>
        <p:grpSpPr>
          <a:xfrm>
            <a:off x="1533600" y="3578400"/>
            <a:ext cx="4753080" cy="777240"/>
            <a:chOff x="1533600" y="3578400"/>
            <a:chExt cx="4753080" cy="777240"/>
          </a:xfrm>
        </p:grpSpPr>
        <p:sp>
          <p:nvSpPr>
            <p:cNvPr id="135" name="Rectangle 23"/>
            <p:cNvSpPr/>
            <p:nvPr/>
          </p:nvSpPr>
          <p:spPr>
            <a:xfrm>
              <a:off x="1533600" y="3958920"/>
              <a:ext cx="475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α - cetoácidos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	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      amoníaco</a:t>
              </a:r>
              <a:r>
                <a:rPr b="0" lang="es-ES" sz="20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4"/>
            <p:cNvSpPr/>
            <p:nvPr/>
          </p:nvSpPr>
          <p:spPr>
            <a:xfrm rot="5400000">
              <a:off x="3918600" y="3588480"/>
              <a:ext cx="739440" cy="7189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 flipH="1" rot="16200000">
              <a:off x="3237120" y="3587760"/>
              <a:ext cx="739440" cy="7207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12 CuadroTexto"/>
          <p:cNvSpPr/>
          <p:nvPr/>
        </p:nvSpPr>
        <p:spPr>
          <a:xfrm>
            <a:off x="2428920" y="285840"/>
            <a:ext cx="300024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GRAD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3 CuadroTexto"/>
          <p:cNvSpPr/>
          <p:nvPr/>
        </p:nvSpPr>
        <p:spPr>
          <a:xfrm>
            <a:off x="2000160" y="13129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¿Mediante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procesos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4 CuadroTexto"/>
          <p:cNvSpPr/>
          <p:nvPr/>
        </p:nvSpPr>
        <p:spPr>
          <a:xfrm>
            <a:off x="1079640" y="4286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Esqueletos carb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5429160" y="50007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178596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5500800" y="43545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8 CuadroTexto"/>
          <p:cNvSpPr/>
          <p:nvPr/>
        </p:nvSpPr>
        <p:spPr>
          <a:xfrm>
            <a:off x="5172120" y="4643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0 CuadroTexto"/>
          <p:cNvSpPr/>
          <p:nvPr/>
        </p:nvSpPr>
        <p:spPr>
          <a:xfrm>
            <a:off x="5112360" y="5357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78604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3 CuadroTexto"/>
          <p:cNvSpPr/>
          <p:nvPr/>
        </p:nvSpPr>
        <p:spPr>
          <a:xfrm>
            <a:off x="866520" y="5000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4 CuadroTexto"/>
          <p:cNvSpPr/>
          <p:nvPr/>
        </p:nvSpPr>
        <p:spPr>
          <a:xfrm>
            <a:off x="2551320" y="500076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1643040" y="5429160"/>
            <a:ext cx="500040" cy="571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2643120" y="5643720"/>
            <a:ext cx="357120" cy="357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7 CuadroTexto"/>
          <p:cNvSpPr/>
          <p:nvPr/>
        </p:nvSpPr>
        <p:spPr>
          <a:xfrm>
            <a:off x="1149120" y="5929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Acetil-CoA,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857760" y="6168960"/>
            <a:ext cx="42840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9 CuadroTexto"/>
          <p:cNvSpPr/>
          <p:nvPr/>
        </p:nvSpPr>
        <p:spPr>
          <a:xfrm>
            <a:off x="4283640" y="6429240"/>
            <a:ext cx="2100960" cy="368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2 + H2O +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0 CuadroTexto"/>
          <p:cNvSpPr/>
          <p:nvPr/>
        </p:nvSpPr>
        <p:spPr>
          <a:xfrm>
            <a:off x="5798520" y="500040"/>
            <a:ext cx="305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¿Qué propor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la necesidad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u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10% del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(90% re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o prov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Hidratos de C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ípid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5429160" y="500040"/>
            <a:ext cx="42876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32 CuadroTexto"/>
          <p:cNvSpPr/>
          <p:nvPr/>
        </p:nvSpPr>
        <p:spPr>
          <a:xfrm>
            <a:off x="-2160" y="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Repasemo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GRADACION DE 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17" descr="tyr"/>
          <p:cNvPicPr/>
          <p:nvPr/>
        </p:nvPicPr>
        <p:blipFill>
          <a:blip r:embed="rId1"/>
          <a:stretch/>
        </p:blipFill>
        <p:spPr>
          <a:xfrm>
            <a:off x="755640" y="1630440"/>
            <a:ext cx="1293840" cy="1754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1"/>
          <p:cNvSpPr/>
          <p:nvPr/>
        </p:nvSpPr>
        <p:spPr>
          <a:xfrm>
            <a:off x="539640" y="3213000"/>
            <a:ext cx="179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3851280" y="1700280"/>
            <a:ext cx="24480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ido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932360" y="2925720"/>
            <a:ext cx="208908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1,2-dioxi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9"/>
          <p:cNvSpPr/>
          <p:nvPr/>
        </p:nvSpPr>
        <p:spPr>
          <a:xfrm>
            <a:off x="4429080" y="2709720"/>
            <a:ext cx="432000" cy="503280"/>
          </a:xfrm>
          <a:custGeom>
            <a:avLst/>
            <a:gdLst>
              <a:gd name="textAreaLeft" fmla="*/ 98640 w 432000"/>
              <a:gd name="textAreaRight" fmla="*/ 333360 w 432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1"/>
          <p:cNvSpPr/>
          <p:nvPr/>
        </p:nvSpPr>
        <p:spPr>
          <a:xfrm>
            <a:off x="212400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>
            <a:off x="306072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5"/>
          <p:cNvSpPr/>
          <p:nvPr/>
        </p:nvSpPr>
        <p:spPr>
          <a:xfrm>
            <a:off x="493236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6"/>
          <p:cNvSpPr/>
          <p:nvPr/>
        </p:nvSpPr>
        <p:spPr>
          <a:xfrm>
            <a:off x="4932360" y="3933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493236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6372360" y="1917720"/>
            <a:ext cx="576000" cy="287280"/>
          </a:xfrm>
          <a:custGeom>
            <a:avLst/>
            <a:gdLst>
              <a:gd name="textAreaLeft" fmla="*/ 100800 w 576000"/>
              <a:gd name="textAreaRight" fmla="*/ 417600 w 576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9"/>
          <p:cNvSpPr/>
          <p:nvPr/>
        </p:nvSpPr>
        <p:spPr>
          <a:xfrm>
            <a:off x="7093080" y="198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LCAPT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0"/>
          <p:cNvSpPr/>
          <p:nvPr/>
        </p:nvSpPr>
        <p:spPr>
          <a:xfrm>
            <a:off x="7308720" y="3716280"/>
            <a:ext cx="1440000" cy="1008720"/>
          </a:xfrm>
          <a:prstGeom prst="rect">
            <a:avLst/>
          </a:prstGeom>
          <a:solidFill>
            <a:srgbClr val="7d6961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RINA MARRON OSC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1"/>
          <p:cNvSpPr/>
          <p:nvPr/>
        </p:nvSpPr>
        <p:spPr>
          <a:xfrm>
            <a:off x="7812000" y="2421000"/>
            <a:ext cx="360360" cy="1079280"/>
          </a:xfrm>
          <a:prstGeom prst="upArrow">
            <a:avLst>
              <a:gd name="adj1" fmla="val 50000"/>
              <a:gd name="adj2" fmla="val 74875"/>
            </a:avLst>
          </a:prstGeom>
          <a:solidFill>
            <a:srgbClr val="7d69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2"/>
          <p:cNvSpPr/>
          <p:nvPr/>
        </p:nvSpPr>
        <p:spPr>
          <a:xfrm>
            <a:off x="468360" y="4724280"/>
            <a:ext cx="2232000" cy="398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3"/>
          <p:cNvSpPr/>
          <p:nvPr/>
        </p:nvSpPr>
        <p:spPr>
          <a:xfrm flipV="1">
            <a:off x="125892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4"/>
          <p:cNvSpPr/>
          <p:nvPr/>
        </p:nvSpPr>
        <p:spPr>
          <a:xfrm>
            <a:off x="2771640" y="6021360"/>
            <a:ext cx="4608720" cy="398880"/>
          </a:xfrm>
          <a:prstGeom prst="rect">
            <a:avLst/>
          </a:prstGeom>
          <a:solidFill>
            <a:srgbClr val="f8a6c9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UMARATO  +  ACETO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1 CuadroTexto"/>
          <p:cNvSpPr/>
          <p:nvPr/>
        </p:nvSpPr>
        <p:spPr>
          <a:xfrm>
            <a:off x="324000" y="476280"/>
            <a:ext cx="8532720" cy="478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E LLAMA  A LA  SUSTANCIA : ALCAP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FINALMENTE SE IDENTIFICA EL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ENZIMA DEFICIENTE ES : </a:t>
            </a:r>
            <a:r>
              <a:rPr b="1" i="1" lang="es-AR" sz="2400" spc="-1" strike="noStrike">
                <a:solidFill>
                  <a:srgbClr val="000000"/>
                </a:solidFill>
                <a:latin typeface="Calibri"/>
              </a:rPr>
              <a:t>HOMOGENTÍSIC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ff"/>
                </a:solidFill>
                <a:latin typeface="Calibri"/>
              </a:rPr>
              <a:t>AMINOACIDOS COMO PRECURSORES EN LA BIOSINTESIS DE AMINAS BIOLOG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descarboxilación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piridoxalfosfato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(PLP)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Rectángulo"/>
          <p:cNvSpPr/>
          <p:nvPr/>
        </p:nvSpPr>
        <p:spPr>
          <a:xfrm>
            <a:off x="446760" y="1429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alibri"/>
              </a:rPr>
              <a:t>PROBLEMA N°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Acido </a:t>
            </a:r>
            <a:r>
              <a:rPr b="1" lang="es-AR" sz="3200" spc="-1" strike="noStrike">
                <a:solidFill>
                  <a:srgbClr val="1f497d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-aminobutirico (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GABA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2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413" name="Picture 13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 Box 14"/>
            <p:cNvSpPr/>
            <p:nvPr/>
          </p:nvSpPr>
          <p:spPr>
            <a:xfrm>
              <a:off x="1683720" y="213372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7"/>
          <p:cNvGrpSpPr/>
          <p:nvPr/>
        </p:nvGrpSpPr>
        <p:grpSpPr>
          <a:xfrm>
            <a:off x="6392880" y="1484280"/>
            <a:ext cx="2131920" cy="1020600"/>
            <a:chOff x="6392880" y="1484280"/>
            <a:chExt cx="2131920" cy="1020600"/>
          </a:xfrm>
        </p:grpSpPr>
        <p:pic>
          <p:nvPicPr>
            <p:cNvPr id="416" name="Picture 16" descr=""/>
            <p:cNvPicPr/>
            <p:nvPr/>
          </p:nvPicPr>
          <p:blipFill>
            <a:blip r:embed="rId2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 Box 15"/>
            <p:cNvSpPr/>
            <p:nvPr/>
          </p:nvSpPr>
          <p:spPr>
            <a:xfrm>
              <a:off x="7323480" y="19936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9"/>
          <p:cNvGrpSpPr/>
          <p:nvPr/>
        </p:nvGrpSpPr>
        <p:grpSpPr>
          <a:xfrm>
            <a:off x="4716360" y="4005360"/>
            <a:ext cx="1071360" cy="902520"/>
            <a:chOff x="4716360" y="4005360"/>
            <a:chExt cx="1071360" cy="902520"/>
          </a:xfrm>
        </p:grpSpPr>
        <p:sp>
          <p:nvSpPr>
            <p:cNvPr id="419" name="Arc 19"/>
            <p:cNvSpPr/>
            <p:nvPr/>
          </p:nvSpPr>
          <p:spPr>
            <a:xfrm>
              <a:off x="4716360" y="4005360"/>
              <a:ext cx="720720" cy="50472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5265720" y="4502160"/>
              <a:ext cx="52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Calibri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422" name="Picture 25" descr=""/>
            <p:cNvPicPr/>
            <p:nvPr/>
          </p:nvPicPr>
          <p:blipFill>
            <a:blip r:embed="rId3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26"/>
            <p:cNvSpPr/>
            <p:nvPr/>
          </p:nvSpPr>
          <p:spPr>
            <a:xfrm>
              <a:off x="7438320" y="321120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0"/>
          <p:cNvGrpSpPr/>
          <p:nvPr/>
        </p:nvGrpSpPr>
        <p:grpSpPr>
          <a:xfrm>
            <a:off x="6372360" y="3789360"/>
            <a:ext cx="2366280" cy="955800"/>
            <a:chOff x="6372360" y="3789360"/>
            <a:chExt cx="2366280" cy="955800"/>
          </a:xfrm>
        </p:grpSpPr>
        <p:pic>
          <p:nvPicPr>
            <p:cNvPr id="425" name="Picture 28" descr=""/>
            <p:cNvPicPr/>
            <p:nvPr/>
          </p:nvPicPr>
          <p:blipFill>
            <a:blip r:embed="rId4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29"/>
            <p:cNvSpPr/>
            <p:nvPr/>
          </p:nvSpPr>
          <p:spPr>
            <a:xfrm>
              <a:off x="7517160" y="422136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1096920" y="4933800"/>
            <a:ext cx="1256400" cy="1737000"/>
            <a:chOff x="1096920" y="4933800"/>
            <a:chExt cx="1256400" cy="1737000"/>
          </a:xfrm>
        </p:grpSpPr>
        <p:pic>
          <p:nvPicPr>
            <p:cNvPr id="428" name="Picture 31" descr=""/>
            <p:cNvPicPr/>
            <p:nvPr/>
          </p:nvPicPr>
          <p:blipFill>
            <a:blip r:embed="rId5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2"/>
            <p:cNvSpPr/>
            <p:nvPr/>
          </p:nvSpPr>
          <p:spPr>
            <a:xfrm>
              <a:off x="1154520" y="630252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35"/>
          <p:cNvGrpSpPr/>
          <p:nvPr/>
        </p:nvGrpSpPr>
        <p:grpSpPr>
          <a:xfrm>
            <a:off x="6737400" y="4941720"/>
            <a:ext cx="1443960" cy="1297080"/>
            <a:chOff x="6737400" y="4941720"/>
            <a:chExt cx="1443960" cy="1297080"/>
          </a:xfrm>
        </p:grpSpPr>
        <p:pic>
          <p:nvPicPr>
            <p:cNvPr id="431" name="Picture 33" descr=""/>
            <p:cNvPicPr/>
            <p:nvPr/>
          </p:nvPicPr>
          <p:blipFill>
            <a:blip r:embed="rId6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4"/>
            <p:cNvSpPr/>
            <p:nvPr/>
          </p:nvSpPr>
          <p:spPr>
            <a:xfrm>
              <a:off x="7449120" y="544680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2"/>
          <p:cNvGrpSpPr/>
          <p:nvPr/>
        </p:nvGrpSpPr>
        <p:grpSpPr>
          <a:xfrm>
            <a:off x="611280" y="3711600"/>
            <a:ext cx="2330280" cy="1231920"/>
            <a:chOff x="611280" y="3711600"/>
            <a:chExt cx="2330280" cy="1231920"/>
          </a:xfrm>
        </p:grpSpPr>
        <p:pic>
          <p:nvPicPr>
            <p:cNvPr id="434" name="Picture 36" descr=""/>
            <p:cNvPicPr/>
            <p:nvPr/>
          </p:nvPicPr>
          <p:blipFill>
            <a:blip r:embed="rId7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7"/>
            <p:cNvSpPr/>
            <p:nvPr/>
          </p:nvSpPr>
          <p:spPr>
            <a:xfrm>
              <a:off x="1756440" y="457524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50"/>
          <p:cNvGrpSpPr/>
          <p:nvPr/>
        </p:nvGrpSpPr>
        <p:grpSpPr>
          <a:xfrm>
            <a:off x="257040" y="2637000"/>
            <a:ext cx="2733480" cy="1087200"/>
            <a:chOff x="257040" y="2637000"/>
            <a:chExt cx="2733480" cy="1087200"/>
          </a:xfrm>
        </p:grpSpPr>
        <p:grpSp>
          <p:nvGrpSpPr>
            <p:cNvPr id="437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438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45" descr=""/>
              <p:cNvPicPr/>
              <p:nvPr/>
            </p:nvPicPr>
            <p:blipFill>
              <a:blip r:embed="rId9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41"/>
            <p:cNvSpPr/>
            <p:nvPr/>
          </p:nvSpPr>
          <p:spPr>
            <a:xfrm>
              <a:off x="2053800" y="33559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443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444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21"/>
              <p:cNvSpPr/>
              <p:nvPr/>
            </p:nvSpPr>
            <p:spPr>
              <a:xfrm>
                <a:off x="3831840" y="356724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22"/>
              <p:cNvSpPr/>
              <p:nvPr/>
            </p:nvSpPr>
            <p:spPr>
              <a:xfrm>
                <a:off x="4198680" y="407664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c0504d"/>
                </a:solidFill>
                <a:uFillTx/>
                <a:latin typeface="Calibri"/>
              </a:rPr>
              <a:t>La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posee acción vasodilatador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disminuye la presión sanguíne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colabora en la constricción de los bronquiol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timula la producción de HCl y estimula la pepsina en est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  <a:ea typeface="Arial"/>
              </a:rPr>
              <a:t>ó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mag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e libera bruscamente en respuesta  al ingreso de sustancias alergenas en los tej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Tiramina y triptamina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on sustancias vasoconstricto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l</a:t>
            </a:r>
            <a:r>
              <a:rPr b="1" lang="es-AR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Acido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γ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-aminobut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í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rico (GABA)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compuesto funcionalmente muy importa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intermediario químico  regulador de la actividad neur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inhibidor de la transmisión del impulso nervi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50840" y="-12600"/>
            <a:ext cx="3873600" cy="6870600"/>
          </a:xfrm>
          <a:prstGeom prst="rect">
            <a:avLst/>
          </a:prstGeom>
          <a:ln w="0">
            <a:noFill/>
          </a:ln>
        </p:spPr>
      </p:pic>
      <p:sp>
        <p:nvSpPr>
          <p:cNvPr id="455" name="4 CuadroTexto"/>
          <p:cNvSpPr/>
          <p:nvPr/>
        </p:nvSpPr>
        <p:spPr>
          <a:xfrm>
            <a:off x="4091040" y="5857920"/>
            <a:ext cx="23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Biosíntesis de Gluta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(animales, plantas, bacter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5 CuadroTexto"/>
          <p:cNvSpPr/>
          <p:nvPr/>
        </p:nvSpPr>
        <p:spPr>
          <a:xfrm>
            <a:off x="4439520" y="1214280"/>
            <a:ext cx="448452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utamato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Cisteína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7 Conector recto de flecha"/>
          <p:cNvCxnSpPr/>
          <p:nvPr/>
        </p:nvCxnSpPr>
        <p:spPr>
          <a:xfrm>
            <a:off x="4788000" y="1571760"/>
            <a:ext cx="784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58" name="8 Conector recto de flecha"/>
          <p:cNvCxnSpPr/>
          <p:nvPr/>
        </p:nvCxnSpPr>
        <p:spPr>
          <a:xfrm flipH="1">
            <a:off x="6641280" y="1571760"/>
            <a:ext cx="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59" name="9 Conector recto de flecha"/>
          <p:cNvCxnSpPr/>
          <p:nvPr/>
        </p:nvCxnSpPr>
        <p:spPr>
          <a:xfrm flipH="1">
            <a:off x="7786440" y="1499760"/>
            <a:ext cx="6451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60" name="12 CuadroTexto"/>
          <p:cNvSpPr/>
          <p:nvPr/>
        </p:nvSpPr>
        <p:spPr>
          <a:xfrm>
            <a:off x="5214960" y="2286000"/>
            <a:ext cx="2786040" cy="368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lutatión  </a:t>
            </a: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14 CuadroTexto"/>
          <p:cNvSpPr/>
          <p:nvPr/>
        </p:nvSpPr>
        <p:spPr>
          <a:xfrm>
            <a:off x="4468320" y="3500280"/>
            <a:ext cx="3577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Glutatión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(G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Amortiguador de óxido-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Colabora en mantener re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los –SH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limina peróxidos tóx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n condiciones aerób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5 Rectángulo"/>
          <p:cNvSpPr/>
          <p:nvPr/>
        </p:nvSpPr>
        <p:spPr>
          <a:xfrm>
            <a:off x="3857760" y="21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5654520" cy="3112920"/>
          </a:xfrm>
          <a:prstGeom prst="rect">
            <a:avLst/>
          </a:prstGeom>
          <a:ln w="9360">
            <a:solidFill>
              <a:srgbClr val="3114dc"/>
            </a:solidFill>
            <a:miter/>
          </a:ln>
        </p:spPr>
      </p:pic>
      <p:sp>
        <p:nvSpPr>
          <p:cNvPr id="464" name="2 CuadroTexto"/>
          <p:cNvSpPr/>
          <p:nvPr/>
        </p:nvSpPr>
        <p:spPr>
          <a:xfrm>
            <a:off x="5284800" y="1500120"/>
            <a:ext cx="7506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3 CuadroTexto"/>
          <p:cNvSpPr/>
          <p:nvPr/>
        </p:nvSpPr>
        <p:spPr>
          <a:xfrm>
            <a:off x="3786120" y="3429000"/>
            <a:ext cx="1285920" cy="64260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4 CuadroTexto"/>
          <p:cNvSpPr/>
          <p:nvPr/>
        </p:nvSpPr>
        <p:spPr>
          <a:xfrm>
            <a:off x="2214720" y="1571760"/>
            <a:ext cx="107136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5 CuadroTexto"/>
          <p:cNvSpPr/>
          <p:nvPr/>
        </p:nvSpPr>
        <p:spPr>
          <a:xfrm>
            <a:off x="1758240" y="1143000"/>
            <a:ext cx="173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6 Rectángulo"/>
          <p:cNvSpPr/>
          <p:nvPr/>
        </p:nvSpPr>
        <p:spPr>
          <a:xfrm>
            <a:off x="928800" y="214200"/>
            <a:ext cx="74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AMINOÁCIDOS PRECURSORES DE COMPUESTOS 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7 CuadroTexto"/>
          <p:cNvSpPr/>
          <p:nvPr/>
        </p:nvSpPr>
        <p:spPr>
          <a:xfrm>
            <a:off x="2489400" y="4286160"/>
            <a:ext cx="407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minoácidos precursores del núcleo de pu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(Nucleótidos de Pur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2 Rectángulo"/>
          <p:cNvSpPr/>
          <p:nvPr/>
        </p:nvSpPr>
        <p:spPr>
          <a:xfrm>
            <a:off x="1857240" y="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 CuadroTexto"/>
          <p:cNvSpPr/>
          <p:nvPr/>
        </p:nvSpPr>
        <p:spPr>
          <a:xfrm>
            <a:off x="3785400" y="107172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6 Conector recto de flecha"/>
          <p:cNvCxnSpPr/>
          <p:nvPr/>
        </p:nvCxnSpPr>
        <p:spPr>
          <a:xfrm flipH="1">
            <a:off x="4284360" y="14997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3" name="11 CuadroTexto"/>
          <p:cNvSpPr/>
          <p:nvPr/>
        </p:nvSpPr>
        <p:spPr>
          <a:xfrm>
            <a:off x="3761280" y="2143080"/>
            <a:ext cx="10782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Me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https://encrypted-tbn1.gstatic.com/images?q=tbn:ANd9GcTXYCxcSKVJ6Gum6b5_Dj6RMALX6t-FyrJIASvupD9FxSFnAxa1mQ"/>
          <p:cNvPicPr/>
          <p:nvPr/>
        </p:nvPicPr>
        <p:blipFill>
          <a:blip r:embed="rId1"/>
          <a:stretch/>
        </p:blipFill>
        <p:spPr>
          <a:xfrm>
            <a:off x="7095960" y="1128600"/>
            <a:ext cx="2048040" cy="2229120"/>
          </a:xfrm>
          <a:prstGeom prst="rect">
            <a:avLst/>
          </a:prstGeom>
          <a:ln w="0">
            <a:noFill/>
          </a:ln>
        </p:spPr>
      </p:pic>
      <p:sp>
        <p:nvSpPr>
          <p:cNvPr id="47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6" descr="https://encrypted-tbn1.gstatic.com/images?q=tbn:ANd9GcRW3ysJb_FVMx3gzU3PEf8MrY9nDXB4P4gfl-AWkXxKVb9Ek-HBtA"/>
          <p:cNvPicPr/>
          <p:nvPr/>
        </p:nvPicPr>
        <p:blipFill>
          <a:blip r:embed="rId2"/>
          <a:stretch/>
        </p:blipFill>
        <p:spPr>
          <a:xfrm>
            <a:off x="77868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https://encrypted-tbn0.gstatic.com/images?q=tbn:ANd9GcSSnWwdapU50ofmmJe1IwOfzDB6YpHrJtMWjhcIT0COIBYxTsWoig"/>
          <p:cNvPicPr/>
          <p:nvPr/>
        </p:nvPicPr>
        <p:blipFill>
          <a:blip r:embed="rId3"/>
          <a:stretch/>
        </p:blipFill>
        <p:spPr>
          <a:xfrm>
            <a:off x="0" y="571680"/>
            <a:ext cx="3403440" cy="228600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2" descr="http://upload.wikimedia.org/wikipedia/commons/c/c2/Melanina2.jpg"/>
          <p:cNvPicPr/>
          <p:nvPr/>
        </p:nvPicPr>
        <p:blipFill>
          <a:blip r:embed="rId4"/>
          <a:stretch/>
        </p:blipFill>
        <p:spPr>
          <a:xfrm>
            <a:off x="71280" y="2930400"/>
            <a:ext cx="6604200" cy="3713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4" descr="https://encrypted-tbn0.gstatic.com/images?q=tbn:ANd9GcSKudC4Qv9hEj3w7jvon_Kyx0OnYnCqz9keZWFXP7ZroP-ZoXEa6w"/>
          <p:cNvPicPr/>
          <p:nvPr/>
        </p:nvPicPr>
        <p:blipFill>
          <a:blip r:embed="rId5"/>
          <a:stretch/>
        </p:blipFill>
        <p:spPr>
          <a:xfrm>
            <a:off x="5716440" y="1071720"/>
            <a:ext cx="1212840" cy="1714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https://encrypted-tbn1.gstatic.com/images?q=tbn:ANd9GcRRoFPYZRQEdBVxgXrsCjcQ9WwXOCTyyg5zQZcm2SkWwHPnGpNb"/>
          <p:cNvPicPr/>
          <p:nvPr/>
        </p:nvPicPr>
        <p:blipFill>
          <a:blip r:embed="rId6"/>
          <a:stretch/>
        </p:blipFill>
        <p:spPr>
          <a:xfrm>
            <a:off x="5643720" y="2716200"/>
            <a:ext cx="1357200" cy="1784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0" descr="https://encrypted-tbn3.gstatic.com/images?q=tbn:ANd9GcSBeALYJFmxyuyi_2o_GE2Yvb9CfOb2_DctUd9hmlcWT2-v8KgI"/>
          <p:cNvPicPr/>
          <p:nvPr/>
        </p:nvPicPr>
        <p:blipFill>
          <a:blip r:embed="rId7"/>
          <a:stretch/>
        </p:blipFill>
        <p:spPr>
          <a:xfrm>
            <a:off x="7286760" y="492912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2" descr="https://encrypted-tbn2.gstatic.com/images?q=tbn:ANd9GcTlYSa0SFiFfVWk43WZjwuKNxqxdC_Mr8Dx25QtIut3SExIvvjZ"/>
          <p:cNvPicPr/>
          <p:nvPr/>
        </p:nvPicPr>
        <p:blipFill>
          <a:blip r:embed="rId8"/>
          <a:stretch/>
        </p:blipFill>
        <p:spPr>
          <a:xfrm>
            <a:off x="7143840" y="3429000"/>
            <a:ext cx="2000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1 CuadroTexto"/>
          <p:cNvSpPr/>
          <p:nvPr/>
        </p:nvSpPr>
        <p:spPr>
          <a:xfrm>
            <a:off x="3323160" y="2071800"/>
            <a:ext cx="2151360" cy="91692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Hormonas Tiroideas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riiodo-tironina (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iroxina (T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2 CuadroTexto"/>
          <p:cNvSpPr/>
          <p:nvPr/>
        </p:nvSpPr>
        <p:spPr>
          <a:xfrm>
            <a:off x="3785400" y="85716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3 Conector recto de flecha"/>
          <p:cNvCxnSpPr/>
          <p:nvPr/>
        </p:nvCxnSpPr>
        <p:spPr>
          <a:xfrm flipH="1">
            <a:off x="4284360" y="12855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" descr="http://upload.wikimedia.org/wikipedia/commons/c/cb/Thyroid_system.png"/>
          <p:cNvPicPr/>
          <p:nvPr/>
        </p:nvPicPr>
        <p:blipFill>
          <a:blip r:embed="rId1"/>
          <a:stretch/>
        </p:blipFill>
        <p:spPr>
          <a:xfrm>
            <a:off x="0" y="1000080"/>
            <a:ext cx="3071880" cy="3567240"/>
          </a:xfrm>
          <a:prstGeom prst="rect">
            <a:avLst/>
          </a:prstGeom>
          <a:ln w="0">
            <a:noFill/>
          </a:ln>
        </p:spPr>
      </p:pic>
      <p:sp>
        <p:nvSpPr>
          <p:cNvPr id="495" name="7 Rectángulo"/>
          <p:cNvSpPr/>
          <p:nvPr/>
        </p:nvSpPr>
        <p:spPr>
          <a:xfrm>
            <a:off x="2357280" y="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9 CuadroTexto"/>
          <p:cNvSpPr/>
          <p:nvPr/>
        </p:nvSpPr>
        <p:spPr>
          <a:xfrm>
            <a:off x="816840" y="928800"/>
            <a:ext cx="163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https://encrypted-tbn1.gstatic.com/images?q=tbn:ANd9GcQxNi-u70SQxIVKmGOvtnh7kgqyOvWimlwy4r0ppVr656FPTjiO"/>
          <p:cNvPicPr/>
          <p:nvPr/>
        </p:nvPicPr>
        <p:blipFill>
          <a:blip r:embed="rId2"/>
          <a:stretch/>
        </p:blipFill>
        <p:spPr>
          <a:xfrm>
            <a:off x="5929200" y="2571840"/>
            <a:ext cx="3071880" cy="4100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" descr="http://www.tuotromedico.com/imagenes/bociog.jpg"/>
          <p:cNvPicPr/>
          <p:nvPr/>
        </p:nvPicPr>
        <p:blipFill>
          <a:blip r:embed="rId3"/>
          <a:stretch/>
        </p:blipFill>
        <p:spPr>
          <a:xfrm>
            <a:off x="3000240" y="4740120"/>
            <a:ext cx="1500480" cy="2046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https://encrypted-tbn3.gstatic.com/images?q=tbn:ANd9GcQsTp_vaDNrhSLMNFT0EmKxsR4_OR5hHGv-DAkEAajmDS5eDE6ypg"/>
          <p:cNvPicPr/>
          <p:nvPr/>
        </p:nvPicPr>
        <p:blipFill>
          <a:blip r:embed="rId4"/>
          <a:stretch/>
        </p:blipFill>
        <p:spPr>
          <a:xfrm>
            <a:off x="1571760" y="4611600"/>
            <a:ext cx="1285920" cy="215604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6" descr="http://saludok.com/wp-content/uploads/2012/03/sintomas-hipertiroidismo.jpg"/>
          <p:cNvPicPr/>
          <p:nvPr/>
        </p:nvPicPr>
        <p:blipFill>
          <a:blip r:embed="rId5"/>
          <a:stretch/>
        </p:blipFill>
        <p:spPr>
          <a:xfrm>
            <a:off x="4506840" y="5143680"/>
            <a:ext cx="1274760" cy="1233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http://www.diariolaprimeraperu.com/online/images/2012/mayo/29/cys1.jpg"/>
          <p:cNvPicPr/>
          <p:nvPr/>
        </p:nvPicPr>
        <p:blipFill>
          <a:blip r:embed="rId6"/>
          <a:stretch/>
        </p:blipFill>
        <p:spPr>
          <a:xfrm>
            <a:off x="4752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MINOACIDOS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ETOGENICOS Y GLUCOGE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520" y="1844640"/>
            <a:ext cx="823284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¿En qué se pueden converti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los esqueletos carbonados de los Aminoácid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Gluc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utilizarse para la síntesis de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gluconeogénesis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Aspártico, Alan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Cet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ser convertidos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uerpos cetónicos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Leucina y Lis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génicos y cetogénic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Fenilalanina, Tirosina, Tripto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Picture 52" descr=""/>
          <p:cNvPicPr/>
          <p:nvPr/>
        </p:nvPicPr>
        <p:blipFill>
          <a:blip r:embed="rId1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6 CuadroTexto"/>
          <p:cNvSpPr/>
          <p:nvPr/>
        </p:nvSpPr>
        <p:spPr>
          <a:xfrm>
            <a:off x="1357200" y="3500280"/>
            <a:ext cx="1357560" cy="3700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1 Rectángulo"/>
          <p:cNvSpPr/>
          <p:nvPr/>
        </p:nvSpPr>
        <p:spPr>
          <a:xfrm>
            <a:off x="214200" y="0"/>
            <a:ext cx="5929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Las catecolamin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Calibri"/>
              </a:rPr>
              <a:t>Dopamina, Noradrenalina y Adrenalina</a:t>
            </a:r>
            <a:r>
              <a:rPr b="1" lang="es-AR" sz="1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e producen en el sistema nervio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y en la medula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vasoconstrictores en algunos tejidos y vasodilatadores en 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umentan la frecuencia cardía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relajantes del músculo bronqu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glucógenolisis en músc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lipólisis en tejid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http://demedicina.com/wp-content/uploads/dopamina_thumb.jpg"/>
          <p:cNvPicPr/>
          <p:nvPr/>
        </p:nvPicPr>
        <p:blipFill>
          <a:blip r:embed="rId1"/>
          <a:stretch/>
        </p:blipFill>
        <p:spPr>
          <a:xfrm>
            <a:off x="5286240" y="1928880"/>
            <a:ext cx="3783240" cy="37227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https://encrypted-tbn3.gstatic.com/images?q=tbn:ANd9GcS95lN5sECYzKWsMCnc8H8ORuOEqD_Q4Ka8YrlswWTfgj_VM9GwOg"/>
          <p:cNvPicPr/>
          <p:nvPr/>
        </p:nvPicPr>
        <p:blipFill>
          <a:blip r:embed="rId2"/>
          <a:stretch/>
        </p:blipFill>
        <p:spPr>
          <a:xfrm>
            <a:off x="2949480" y="5143680"/>
            <a:ext cx="1693800" cy="1285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https://encrypted-tbn0.gstatic.com/images?q=tbn:ANd9GcTPRyjLK6AoPPtLqBO37vg8SPKYi08Px9qI0tAYFKddlngHsS2unw"/>
          <p:cNvPicPr/>
          <p:nvPr/>
        </p:nvPicPr>
        <p:blipFill>
          <a:blip r:embed="rId3"/>
          <a:stretch/>
        </p:blipFill>
        <p:spPr>
          <a:xfrm>
            <a:off x="357120" y="4929120"/>
            <a:ext cx="2000160" cy="1730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https://encrypted-tbn2.gstatic.com/images?q=tbn:ANd9GcQGKkBpLSOCaiKndiWv8rE2ZqoscxlHQNP_ZNzWc7goP_-HZkow"/>
          <p:cNvPicPr/>
          <p:nvPr/>
        </p:nvPicPr>
        <p:blipFill>
          <a:blip r:embed="rId4"/>
          <a:stretch/>
        </p:blipFill>
        <p:spPr>
          <a:xfrm>
            <a:off x="1143000" y="3195720"/>
            <a:ext cx="2647800" cy="1733400"/>
          </a:xfrm>
          <a:prstGeom prst="rect">
            <a:avLst/>
          </a:prstGeom>
          <a:ln w="0">
            <a:noFill/>
          </a:ln>
        </p:spPr>
      </p:pic>
      <p:sp>
        <p:nvSpPr>
          <p:cNvPr id="514" name="9 Elipse"/>
          <p:cNvSpPr/>
          <p:nvPr/>
        </p:nvSpPr>
        <p:spPr>
          <a:xfrm>
            <a:off x="6786720" y="1928880"/>
            <a:ext cx="78552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11 Conector recto"/>
          <p:cNvSpPr/>
          <p:nvPr/>
        </p:nvSpPr>
        <p:spPr>
          <a:xfrm>
            <a:off x="6786720" y="3000240"/>
            <a:ext cx="785520" cy="1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FUNCIONES PRECURSORAS DE LOS AMINOA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39120" cy="4524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IC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UTAMINA y GLUTAMAT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FENILALANINA y 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RIPTOFAN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erotonina, Triptamina, Melatonina, Acido nicotínico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HISTID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, GLIC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66400" cy="136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FACTORES UTILIZADOS EN REACCIONES DE DEGRADACION DE ESQUELETOS CARB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0560" y="1857240"/>
            <a:ext cx="8232840" cy="452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FOLATO (F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ferencia de unidades de un carbono (metilo, formilo, metilen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S-ADENOSILMETIONINA (SAM):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ransferencia de metil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BIOPTERINA (B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portador de electr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UTILIZACION DE METILOS DE METIONINA </a:t>
            </a:r>
            <a:br>
              <a:rPr sz="2800"/>
            </a:b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N REACCIONES DE SINT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drena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RN meti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32840" cy="114156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ORMACION DE S-ADENOSIL METIONINA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(SAM ó AdoM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3" name="Object 5"/>
          <p:cNvGraphicFramePr/>
          <p:nvPr/>
        </p:nvGraphicFramePr>
        <p:xfrm>
          <a:off x="395280" y="1341360"/>
          <a:ext cx="50799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50799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8"/>
          <p:cNvSpPr/>
          <p:nvPr/>
        </p:nvSpPr>
        <p:spPr>
          <a:xfrm>
            <a:off x="6227640" y="1557360"/>
            <a:ext cx="2449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METI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9"/>
          <p:cNvSpPr/>
          <p:nvPr/>
        </p:nvSpPr>
        <p:spPr>
          <a:xfrm>
            <a:off x="7020000" y="2276640"/>
            <a:ext cx="649080" cy="1728720"/>
          </a:xfrm>
          <a:prstGeom prst="downArrow">
            <a:avLst>
              <a:gd name="adj1" fmla="val 50000"/>
              <a:gd name="adj2" fmla="val 665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"/>
          <p:cNvSpPr/>
          <p:nvPr/>
        </p:nvSpPr>
        <p:spPr>
          <a:xfrm>
            <a:off x="5940360" y="4149720"/>
            <a:ext cx="3097440" cy="230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PPAL DO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 MET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1332000" y="1916280"/>
            <a:ext cx="5400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Calibri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8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Acción de Vit B</a:t>
            </a:r>
            <a:r>
              <a:rPr b="1" lang="es-A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sobre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transporte de grupos metil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AutoShape 12"/>
          <p:cNvCxnSpPr>
            <a:stCxn id="531" idx="1"/>
            <a:endCxn id="530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39" name="Line 13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6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7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Calibri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9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1128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328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lgunos aminoácidos cuando se degradan dan más de un produc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E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IPTOFAN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FENILALA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ISOLEU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924360" y="393372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356000" y="4076640"/>
            <a:ext cx="295272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oacetil-CoA y Fum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2708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Aceto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067280" y="5950080"/>
            <a:ext cx="3887640" cy="45972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3203640" y="623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4284720" y="1484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3132000" y="1916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276720" y="306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66400" cy="136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FACTORES UTILIZADOS EN REACCIONES DE DEGRADACION DE ESQUELETOS CARB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857240"/>
            <a:ext cx="8232840" cy="452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FOLATO (F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ferencia de unidades de un carbono (metilo, formilo, metilen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S-ADENOSILMETIONINA (SAM):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ransferencia de metil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TETRAHIDROBIOPTERINA (BH</a:t>
            </a:r>
            <a:r>
              <a:rPr b="1" lang="es-ES" sz="2400" spc="-1" strike="noStrike" baseline="-25000">
                <a:solidFill>
                  <a:srgbClr val="3333ff"/>
                </a:solidFill>
                <a:latin typeface="Calibri"/>
              </a:rPr>
              <a:t>4</a:t>
            </a:r>
            <a:r>
              <a:rPr b="1" lang="es-ES" sz="2400" spc="-1" strike="noStrike">
                <a:solidFill>
                  <a:srgbClr val="3333ff"/>
                </a:solidFill>
                <a:latin typeface="Calibri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Transportador de electr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73160" y="409680"/>
            <a:ext cx="689904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177" name="5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2 Rectángulo"/>
          <p:cNvSpPr/>
          <p:nvPr/>
        </p:nvSpPr>
        <p:spPr>
          <a:xfrm>
            <a:off x="5643720" y="3357720"/>
            <a:ext cx="100008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3 Rectángulo"/>
          <p:cNvSpPr/>
          <p:nvPr/>
        </p:nvSpPr>
        <p:spPr>
          <a:xfrm>
            <a:off x="300024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550080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550080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682560" y="5715000"/>
            <a:ext cx="747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1825560" y="5715000"/>
            <a:ext cx="747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5968800" y="2581200"/>
            <a:ext cx="747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4"/>
          <p:cNvSpPr/>
          <p:nvPr/>
        </p:nvSpPr>
        <p:spPr>
          <a:xfrm>
            <a:off x="3635280" y="5084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3248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FORMAN 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843280" y="1341360"/>
            <a:ext cx="2232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867280" y="2349360"/>
            <a:ext cx="23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867280" y="458136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132000" y="278136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0" y="2781360"/>
            <a:ext cx="26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ALDEH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203640" y="4581360"/>
            <a:ext cx="1511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6360" y="5300640"/>
            <a:ext cx="18716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ST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2843280" y="6165720"/>
            <a:ext cx="20890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6156360" y="6202440"/>
            <a:ext cx="2663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3780000" y="19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2657520" y="1838520"/>
            <a:ext cx="558720" cy="80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3564000" y="5084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2016360" y="5639760"/>
            <a:ext cx="574200" cy="33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6732720" y="2997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H="1">
            <a:off x="4932000" y="5084640"/>
            <a:ext cx="1655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804000" y="386064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 flipV="1">
            <a:off x="4999320" y="6527880"/>
            <a:ext cx="998280" cy="2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995640" y="19162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Treonina ald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399564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OH-metil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6084720" y="530064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LT ó        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514836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468360" y="3500280"/>
            <a:ext cx="230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Met 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2195640" y="4221000"/>
            <a:ext cx="720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9"/>
          <p:cNvSpPr/>
          <p:nvPr/>
        </p:nvSpPr>
        <p:spPr>
          <a:xfrm>
            <a:off x="392436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0"/>
          <p:cNvSpPr/>
          <p:nvPr/>
        </p:nvSpPr>
        <p:spPr>
          <a:xfrm>
            <a:off x="3132000" y="371628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2700360" y="5300640"/>
            <a:ext cx="7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565164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164360" y="3284640"/>
            <a:ext cx="194472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IL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6804000" y="3357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8172360" y="4365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125892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851280" y="4149720"/>
            <a:ext cx="86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250920" y="6093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Oxidación y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oup 32" descr=""/>
          <p:cNvPicPr/>
          <p:nvPr/>
        </p:nvPicPr>
        <p:blipFill>
          <a:blip r:embed="rId1"/>
          <a:stretch/>
        </p:blipFill>
        <p:spPr>
          <a:xfrm>
            <a:off x="1066680" y="512640"/>
            <a:ext cx="6534360" cy="63518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24"/>
          <p:cNvGrpSpPr/>
          <p:nvPr/>
        </p:nvGrpSpPr>
        <p:grpSpPr>
          <a:xfrm>
            <a:off x="2441160" y="1487520"/>
            <a:ext cx="1429920" cy="598320"/>
            <a:chOff x="2441160" y="1487520"/>
            <a:chExt cx="1429920" cy="598320"/>
          </a:xfrm>
        </p:grpSpPr>
        <p:sp>
          <p:nvSpPr>
            <p:cNvPr id="230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2441160" y="1654200"/>
              <a:ext cx="4975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alibri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3228120" y="1487520"/>
              <a:ext cx="409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Calibri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9"/>
            <p:cNvSpPr/>
            <p:nvPr/>
          </p:nvSpPr>
          <p:spPr>
            <a:xfrm>
              <a:off x="3566880" y="1844640"/>
              <a:ext cx="304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Calibri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0"/>
            <p:cNvSpPr/>
            <p:nvPr/>
          </p:nvSpPr>
          <p:spPr>
            <a:xfrm>
              <a:off x="2936520" y="1878120"/>
              <a:ext cx="399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1285920" y="1590840"/>
            <a:ext cx="1772280" cy="949320"/>
            <a:chOff x="1285920" y="1590840"/>
            <a:chExt cx="1772280" cy="949320"/>
          </a:xfrm>
        </p:grpSpPr>
        <p:sp>
          <p:nvSpPr>
            <p:cNvPr id="237" name="Text Box 14"/>
            <p:cNvSpPr/>
            <p:nvPr/>
          </p:nvSpPr>
          <p:spPr>
            <a:xfrm>
              <a:off x="1285920" y="2357280"/>
              <a:ext cx="857160" cy="182880"/>
            </a:xfrm>
            <a:prstGeom prst="rect">
              <a:avLst/>
            </a:prstGeom>
            <a:solidFill>
              <a:srgbClr val="d6ecee"/>
            </a:solidFill>
            <a:ln w="2232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alibri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385360" y="1989000"/>
              <a:ext cx="67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Calibri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Calibri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1378800" y="1590840"/>
              <a:ext cx="867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3"/>
            <p:cNvSpPr/>
            <p:nvPr/>
          </p:nvSpPr>
          <p:spPr>
            <a:xfrm>
              <a:off x="1684080" y="1951200"/>
              <a:ext cx="270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Calibri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6"/>
          <p:cNvSpPr/>
          <p:nvPr/>
        </p:nvSpPr>
        <p:spPr>
          <a:xfrm>
            <a:off x="471492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6 CuadroTexto"/>
          <p:cNvSpPr/>
          <p:nvPr/>
        </p:nvSpPr>
        <p:spPr>
          <a:xfrm>
            <a:off x="6357960" y="3929040"/>
            <a:ext cx="23572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27 CuadroTexto"/>
          <p:cNvSpPr/>
          <p:nvPr/>
        </p:nvSpPr>
        <p:spPr>
          <a:xfrm>
            <a:off x="3857760" y="4786200"/>
            <a:ext cx="271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31 CuadroTexto"/>
          <p:cNvSpPr/>
          <p:nvPr/>
        </p:nvSpPr>
        <p:spPr>
          <a:xfrm>
            <a:off x="857160" y="2571840"/>
            <a:ext cx="30006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33 CuadroTexto"/>
          <p:cNvSpPr/>
          <p:nvPr/>
        </p:nvSpPr>
        <p:spPr>
          <a:xfrm>
            <a:off x="5754600" y="928800"/>
            <a:ext cx="747720" cy="276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70c0"/>
            </a:solidFill>
            <a:miter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4 CuadroTexto"/>
          <p:cNvSpPr/>
          <p:nvPr/>
        </p:nvSpPr>
        <p:spPr>
          <a:xfrm>
            <a:off x="5757480" y="2367000"/>
            <a:ext cx="613440" cy="276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Gli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5 CuadroTexto"/>
          <p:cNvSpPr/>
          <p:nvPr/>
        </p:nvSpPr>
        <p:spPr>
          <a:xfrm>
            <a:off x="5609880" y="3643200"/>
            <a:ext cx="578520" cy="2764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er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6 CuadroTexto"/>
          <p:cNvSpPr/>
          <p:nvPr/>
        </p:nvSpPr>
        <p:spPr>
          <a:xfrm>
            <a:off x="3429000" y="2728800"/>
            <a:ext cx="3071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8 CuadroTexto"/>
          <p:cNvSpPr/>
          <p:nvPr/>
        </p:nvSpPr>
        <p:spPr>
          <a:xfrm>
            <a:off x="5541480" y="5000760"/>
            <a:ext cx="718560" cy="27648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Piruv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9 CuadroTexto"/>
          <p:cNvSpPr/>
          <p:nvPr/>
        </p:nvSpPr>
        <p:spPr>
          <a:xfrm>
            <a:off x="3643200" y="3929040"/>
            <a:ext cx="28576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40 CuadroTexto"/>
          <p:cNvSpPr/>
          <p:nvPr/>
        </p:nvSpPr>
        <p:spPr>
          <a:xfrm>
            <a:off x="4563000" y="6581880"/>
            <a:ext cx="84528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41 CuadroTexto"/>
          <p:cNvSpPr/>
          <p:nvPr/>
        </p:nvSpPr>
        <p:spPr>
          <a:xfrm>
            <a:off x="4221720" y="5357880"/>
            <a:ext cx="14241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42 CuadroTexto"/>
          <p:cNvSpPr/>
          <p:nvPr/>
        </p:nvSpPr>
        <p:spPr>
          <a:xfrm>
            <a:off x="7217280" y="142920"/>
            <a:ext cx="1834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DEGRAD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Tre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40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07:28:10Z</dcterms:created>
  <dc:creator>ali y facu</dc:creator>
  <dc:description/>
  <dc:language>en-US</dc:language>
  <cp:lastModifiedBy>ali y facu</cp:lastModifiedBy>
  <dcterms:modified xsi:type="dcterms:W3CDTF">2014-10-24T05:06:38Z</dcterms:modified>
  <cp:revision>18</cp:revision>
  <dc:subject/>
  <dc:title>Diapositiva 1</dc:title>
</cp:coreProperties>
</file>